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0.png" ContentType="image/png"/>
  <Override PartName="/ppt/media/image5.png" ContentType="image/png"/>
  <Override PartName="/ppt/media/image2.gif" ContentType="image/gif"/>
  <Override PartName="/ppt/media/image13.jpeg" ContentType="image/jpe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3.png" ContentType="image/png"/>
  <Override PartName="/ppt/media/image14.pct" ContentType="image/x-pict"/>
  <Override PartName="/ppt/media/image16.jpeg" ContentType="image/jpeg"/>
  <Override PartName="/ppt/media/image15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6858000" cy="91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8"/>
          </p:nvPr>
        </p:nvSpPr>
        <p:spPr>
          <a:xfrm>
            <a:off x="-36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 type="sldNum" idx="9"/>
          </p:nvPr>
        </p:nvSpPr>
        <p:spPr>
          <a:xfrm>
            <a:off x="388584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60CEC-4D8F-4783-81DC-D939DA66AB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      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entury Gothic"/>
              </a:rPr>
              <a:t>In this view of the building there is a line of symmetry through the centre of the tomb from top to bottom. It was completed in 1630 by the Indian ruler Shahs Jahan as a tomb for his favourite wife Mumtaz Mahal who died as a result of giving birth to their 14th child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entury Gothic"/>
              </a:rPr>
              <a:t>To build this tomb it took 20 000 workers, 20 years (Encarta 97) and it is rumoured that they used 40 000 elephants to transport the materials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99"/>
                </a:solidFill>
                <a:latin typeface="Century Gothic"/>
              </a:rPr>
              <a:t>Is there a pattern here?</a:t>
            </a:r>
            <a:r>
              <a:rPr b="0" lang="en-US" sz="12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           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 could you prove that a square really does have 4 lines of symmetry and not 2.</a:t>
            </a:r>
            <a:r>
              <a:rPr b="0" lang="en-US" sz="1200" spc="-1" strike="noStrike">
                <a:solidFill>
                  <a:srgbClr val="ffffff"/>
                </a:solidFill>
                <a:latin typeface="Century Gothic"/>
              </a:rPr>
              <a:t>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            A rectangle has 4 lines of symmetry. True or False? How could you prove it?</a:t>
            </a:r>
            <a:r>
              <a:rPr b="0" lang="en-US" sz="1200" spc="-1" strike="noStrike">
                <a:solidFill>
                  <a:srgbClr val="ffffff"/>
                </a:solidFill>
                <a:latin typeface="Century Gothic"/>
              </a:rPr>
              <a:t>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            What pattern can you see emerging on this page?</a:t>
            </a:r>
            <a:r>
              <a:rPr b="0" lang="en-US" sz="12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       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 would you define the term 'line symmetry'?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        Why might some people see line symmetry as a thing of beauty?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entury Gothic"/>
              </a:rPr>
              <a:t>This type of symmetry is also called reflectional symmetry as the two parts reflect/match along each side of a dividing line ( or axis 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re are also many examples of symmetry inside the human body e.g. the lungs, the kidneys, the brain, the skull, et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B8C75-17D8-4208-8D17-57B4452A5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1600" y="28195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371600" y="37353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620EC-2402-4D65-855F-2E10F7677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5156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37160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5156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ADA73-8402-423B-9EEC-B05B583FB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371600" y="2819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535560" y="2819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699880" y="2819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371600" y="3735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535560" y="3735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699880" y="3735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21CE0-BB1E-4AD1-B52F-E610AFF64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70E4E-4DCE-49EE-80C8-37208B836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C91ED-33CF-482E-AA82-5919EFBD1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0EC5C-47D7-4156-AC92-8C608A67F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160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5156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0EB77-3E8B-49BC-9C5B-08D42D179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38B8C-B51A-463B-8233-0957E00B5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67C6C-655A-4EA0-B2E0-BDE8888C4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160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5156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37160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3443F-BA35-4446-8CF2-A0A4CB4BF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7E04A-4B3F-491D-92D1-F94B9EE9C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160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5156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5156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39268-7C19-4A4C-9325-850DA15F7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160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5156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371600" y="37353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9BBC2-D7A7-44E7-97F5-C65DF8D73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71600" y="28195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371600" y="37353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0926F-899A-476E-88F6-1B716DC63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7160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5156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37160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5156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45874-CC8E-41EC-B249-FD27843B0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371600" y="2819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535560" y="2819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699880" y="2819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371600" y="3735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535560" y="3735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699880" y="3735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18FC4-F824-4D36-9981-A203837EF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25055-5B1A-4396-8C17-9FCCA9D73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25530-707E-4DAA-B11F-D02B5D36C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96A13-9EC1-47B8-ABD6-18D02248E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F067D-F67F-44A0-AAD0-57FF20F50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60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156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37160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D9119-EAA1-453B-BACB-08B8B8115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56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5156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0E2AE-4355-4F44-98FC-9A8775999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5156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371600" y="37353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4D9FB-312C-4971-9FAB-EFA0A9630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377CF-9E0F-4A59-A7D1-C16DDFEC608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body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47" name="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50AF5-585F-40EC-81D5-C3008D50F75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schools.ash.org.au/stkierans-manly/Classes/Yr6/6B/Symmetry/page1.html#symindex" TargetMode="External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48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Times New Roman"/>
              </a:rPr>
              <a:t>Symmetry:</a:t>
            </a:r>
            <a:br>
              <a:rPr sz="6000"/>
            </a:br>
            <a:r>
              <a:rPr b="0" lang="en-US" sz="6000" spc="-1" strike="noStrike">
                <a:solidFill>
                  <a:srgbClr val="ffff00"/>
                </a:solidFill>
                <a:latin typeface="Times New Roman"/>
              </a:rPr>
              <a:t>A Visual Presentation</a:t>
            </a:r>
            <a:br>
              <a:rPr sz="6000"/>
            </a:br>
            <a:endParaRPr b="0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4038120"/>
            <a:ext cx="86868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PowerPoint Presentation created by Mrs. Gamache using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collection of web pages created by the Adrian Bruce and students of 6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http://www.adrianbruce.co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Century Gothic"/>
              </a:rPr>
              <a:t>REFLECTION IN WATER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2437920"/>
            <a:ext cx="419112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If an object is reflected in water it is considered to have line symmetry along the waterline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4572000" y="2819520"/>
            <a:ext cx="3951360" cy="34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Century Gothic"/>
              </a:rPr>
              <a:t>The Taj Mahal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304920" y="4724280"/>
            <a:ext cx="853416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ymmetry exists in architecture all around the world.  The best known example of this is the Taj Mahal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990720" y="990720"/>
            <a:ext cx="7162560" cy="37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228240" y="-360"/>
            <a:ext cx="8915400" cy="6629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This photograph shows 2 lines of symmetry. One vertical, the other along the waterlin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(Notice how the prayer towers, called minarets, are reflected in the water and side to side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219320" y="1143000"/>
            <a:ext cx="6858000" cy="456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ff"/>
                </a:solidFill>
                <a:uFillTx/>
                <a:latin typeface="Century Gothic"/>
              </a:rPr>
              <a:t>2D Shapes and Symmetr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After investigating the following shapes by cutting and folding, we found: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  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304560" y="41148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an equilateral triangle has 3 internal angles and 3 lines of symmetry. 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2362320" y="304920"/>
            <a:ext cx="3581280" cy="34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380880" y="4114800"/>
            <a:ext cx="830592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 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  </a:t>
            </a: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a square has 4 internal angles and 4 lines of symmetry. 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 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2362320" y="380880"/>
            <a:ext cx="363384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609120" y="4343400"/>
            <a:ext cx="815364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   </a:t>
            </a: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a regular pentagon has 5 internal angles and 5 lines of symmetry.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2362320" y="380880"/>
            <a:ext cx="38862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533160" y="4723920"/>
            <a:ext cx="838188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a regular hexagon has 6 internal angles and 6 lines of symmetry .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2286000" y="228600"/>
            <a:ext cx="426708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457200" y="4038120"/>
            <a:ext cx="830592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 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   </a:t>
            </a: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a regular octagon has 8 internal angles and 8 lines of symmetr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4568"/>
                </a:solidFill>
                <a:uFillTx/>
                <a:latin typeface="Century Gothic"/>
                <a:hlinkClick r:id="rId1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2133720" y="152280"/>
            <a:ext cx="419076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Line Symmetr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83822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hape has line symmetry when one half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of it is the mirror image of the other half.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ymmetry exists all around us and many people see it as being a thing of beaut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3276720" y="2209680"/>
            <a:ext cx="20970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Century Gothic"/>
              </a:rPr>
              <a:t>Is a butterfly symmetrical?</a:t>
            </a:r>
            <a:br>
              <a:rPr sz="4800"/>
            </a:b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2362320" y="2133720"/>
            <a:ext cx="4152960" cy="313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entury Gothic"/>
              </a:rPr>
              <a:t>Line Symmetry exists in nature but you may not have noticed.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entury Gothic"/>
              </a:rPr>
              <a:t>At the  beach there are a variety of shells with line symmetry.</a:t>
            </a:r>
            <a:r>
              <a:rPr b="0" lang="en-US" sz="4800" spc="-1" strike="noStrike">
                <a:solidFill>
                  <a:srgbClr val="0066ff"/>
                </a:solidFill>
                <a:latin typeface="Century Gothic"/>
              </a:rPr>
              <a:t> </a:t>
            </a:r>
            <a:br>
              <a:rPr sz="4800"/>
            </a:b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2895480" y="2819520"/>
            <a:ext cx="3314880" cy="33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entury Gothic"/>
              </a:rPr>
              <a:t>Under the sea there are also many symmetrical objects such as these crabs</a:t>
            </a:r>
            <a:r>
              <a:rPr b="0" lang="en-US" sz="4000" spc="-1" strike="noStrike">
                <a:solidFill>
                  <a:srgbClr val="0066ff"/>
                </a:solidFill>
                <a:latin typeface="Century Gothic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0066ff"/>
                </a:solidFill>
                <a:latin typeface="Century Gothic"/>
              </a:rPr>
              <a:t> 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66ff"/>
                </a:solidFill>
                <a:latin typeface="Century Gothic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entury Gothic"/>
              </a:rPr>
              <a:t>and this starfish.</a:t>
            </a:r>
            <a:r>
              <a:rPr b="0" lang="en-US" sz="4000" spc="-1" strike="noStrike">
                <a:solidFill>
                  <a:srgbClr val="0066ff"/>
                </a:solidFill>
                <a:latin typeface="Century Gothic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981080" y="2543040"/>
            <a:ext cx="2210040" cy="157176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5181480" y="2544840"/>
            <a:ext cx="2095560" cy="150948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3733920" y="4800600"/>
            <a:ext cx="175248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Century Gothic"/>
              </a:rPr>
              <a:t>Animals that have Line Symmetry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380520" y="5409720"/>
            <a:ext cx="84582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Here are a few more great examples of mirror image in the animal kingdom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6477120" y="1752480"/>
            <a:ext cx="1714320" cy="12798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914400" y="1828800"/>
            <a:ext cx="1531800" cy="15318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3657600" y="2438280"/>
            <a:ext cx="1486080" cy="8924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4"/>
          <a:stretch/>
        </p:blipFill>
        <p:spPr>
          <a:xfrm>
            <a:off x="2286000" y="3581280"/>
            <a:ext cx="1200240" cy="17146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5"/>
          <a:stretch/>
        </p:blipFill>
        <p:spPr>
          <a:xfrm>
            <a:off x="5257800" y="3657600"/>
            <a:ext cx="141120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ff"/>
                </a:solidFill>
                <a:uFillTx/>
                <a:latin typeface="Times New Roman"/>
              </a:rPr>
              <a:t>THESE MASKS HAVE SYMMETRY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2819520" y="3657600"/>
            <a:ext cx="632448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hese masks have a line of symmetry from the forehead to the chin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 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he human face also has a line of symmetry in the same plac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1066680"/>
            <a:ext cx="384012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Times New Roman"/>
              </a:rPr>
              <a:t>Human Symmetry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647960" y="1904760"/>
            <a:ext cx="42670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'Proportions of Man' is a famous work of art by Leonardo da Vinci that shows the symmetry of the human form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228600" y="1828800"/>
            <a:ext cx="391644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3T17:51:32Z</dcterms:created>
  <dc:creator>TTI, User</dc:creator>
  <dc:description/>
  <dc:language>en-US</dc:language>
  <cp:lastModifiedBy>STAFF TGHS</cp:lastModifiedBy>
  <dcterms:modified xsi:type="dcterms:W3CDTF">2009-09-14T02:30:36Z</dcterms:modified>
  <cp:revision>12</cp:revision>
  <dc:subject/>
  <dc:title>Line Symmetry</dc:title>
</cp:coreProperties>
</file>